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gif" ContentType="image/gif"/>
  <Override PartName="/ppt/media/image25.gif" ContentType="image/gif"/>
  <Override PartName="/ppt/media/image24.gif" ContentType="image/gif"/>
  <Override PartName="/ppt/media/image32.jpeg" ContentType="image/jpeg"/>
  <Override PartName="/ppt/media/image23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22.png" ContentType="image/png"/>
  <Override PartName="/ppt/media/image12.gif" ContentType="image/gif"/>
  <Override PartName="/ppt/media/image3.jpeg" ContentType="image/jpeg"/>
  <Override PartName="/ppt/media/image37.jpeg" ContentType="image/jpeg"/>
  <Override PartName="/ppt/media/image10.gif" ContentType="image/gif"/>
  <Override PartName="/ppt/media/image31.gif" ContentType="image/gif"/>
  <Override PartName="/ppt/media/image34.png" ContentType="image/png"/>
  <Override PartName="/ppt/media/image33.png" ContentType="image/png"/>
  <Override PartName="/ppt/media/image30.gif" ContentType="image/gif"/>
  <Override PartName="/ppt/media/image36.png" ContentType="image/png"/>
  <Override PartName="/ppt/media/image38.png" ContentType="image/png"/>
  <Override PartName="/ppt/media/image35.gif" ContentType="image/gif"/>
  <Override PartName="/ppt/media/image40.png" ContentType="image/png"/>
  <Override PartName="/ppt/media/image39.png" ContentType="image/png"/>
  <Override PartName="/ppt/media/image9.gif" ContentType="image/gif"/>
  <Override PartName="/ppt/media/image13.gif" ContentType="image/gif"/>
  <Override PartName="/ppt/media/image7.png" ContentType="image/png"/>
  <Override PartName="/ppt/media/image1.jpeg" ContentType="image/jpeg"/>
  <Override PartName="/ppt/media/image6.wmf" ContentType="image/x-wmf"/>
  <Override PartName="/ppt/media/image11.gif" ContentType="image/gif"/>
  <Override PartName="/ppt/media/image8.gif" ContentType="image/gif"/>
  <Override PartName="/ppt/media/image4.wmf" ContentType="image/x-wmf"/>
  <Override PartName="/ppt/media/image14.gif" ContentType="image/gif"/>
  <Override PartName="/ppt/media/image5.jpeg" ContentType="image/jpeg"/>
  <Override PartName="/ppt/media/image15.gif" ContentType="image/gif"/>
  <Override PartName="/ppt/media/image20.png" ContentType="image/png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A6ED-D883-48E3-AE24-C1D1B2F3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504D-ADDF-4BEC-80EC-53FDEFE9A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B7C4-79DC-4E1D-A666-3BF811212D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0C9-0E79-454F-A51B-BA54669E12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665-2D58-4276-B837-B0E166438D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173-426E-4A84-860B-4739CF86A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DFB-44AF-4BFE-A410-DC6D5C4689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9177-6868-4D84-901E-498D6FB338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EDA5-22F4-4BF9-9CCC-505FC9764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3E9B-127D-40BA-8FCB-382E5D396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2F84-935F-48A8-A379-3585CFD4C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4CC-117B-484C-9483-D06029654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EFE-09DE-459D-8826-5A4DFA9EB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AF27-669E-4632-9A1C-BC9E58168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8AB3-44DF-429C-873D-1381F0D1E2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C69-4607-458E-90BD-56B2774BD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4BFD-7B2D-4408-A1CB-96F164B91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448B-85AB-4194-B73D-68826B424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725-A287-4BF1-8B15-5988502A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D1D-3A1A-4AF8-AB79-7E0DA298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07C45-1CBB-4538-8665-ABA2ADA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0414-5335-46CD-88CE-59C953B3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5FBFD-3CA5-4689-A2FE-8D6C8557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F3A7-2BF4-4ACD-BF66-C63B067C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02C0A-EC9E-498F-9120-41A462A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C3A74-89DA-4055-BD76-E5F1C42B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BC617-193F-4250-BBF0-B821900A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A66D5-39D1-4BDC-AED7-4B7B177A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EDE56-542B-4E03-882E-631FCC33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C8EAC-4FDA-41CB-83C4-5C6205D5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9F9-1A63-4CCF-972D-1C9EBDC7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8C30B-FFD2-4CA2-9D86-42E12CD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62201-6F43-4F88-8FD3-CB2A5DFF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C3044-3498-4577-9109-1B2C4406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9D5EC-D730-4DC0-9277-9B3EAB6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2DB74-0CDF-482E-A7F9-2F17E2B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E7412-6DC6-4F32-92BD-E8EE9D0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C6B27-4F95-406E-AEC1-999907D4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0EBC4-E4BE-45E7-BC9A-6029874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A13EB-B81F-49A7-918D-CE8D740B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683E3-4833-4822-87E4-C6038386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3D1-AE76-4A96-A325-E6E7F570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F5AD3-A88E-416C-BB3C-5B3345FB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DBFD9-6A61-4D97-81E0-7AE36EE7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EB9AC-B0FB-4D7A-B115-B0DE0113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DF7DA-49B4-4971-8EA7-0E03899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92FF6-7331-4F7C-8225-18035A1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91696-0A3C-4FFE-833B-F3BAE8F2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F7034-AC56-4E39-A91F-01CF0417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8450-08BC-4EAF-B45F-14B569F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3870-CB0D-4F50-B7C1-04EBEB3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87F1D-FAB5-4B4D-B3DC-BB60E39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E206-0343-449B-A022-657D01DF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862CD-CAE1-4CE5-96A0-DC70EF1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4157-CBAB-43C8-A4C9-3308992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5429B-385C-449E-94EA-96BFFEE2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5A265-A7C7-4C41-A8B7-C91316FA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F117F-AB5E-4F00-9813-8DB6D82C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1D2D5-EC1F-4A5A-AE0C-26EDA615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F198C-ED0A-4289-8B2F-947FBE8F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5C325-5A31-42CC-BA9C-89F17EA1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B4A25-FEAB-4618-B20C-DBADEEC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CB3AC-039B-4DA9-9EF9-E1F9DE4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26ED-E6AA-4D24-8D57-5EE70093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D2494-FCAC-4535-B15D-D423626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9C19-8E91-43F6-A97F-EEF3EFB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DA768-E816-48A8-BF6E-26434D28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C4137-0FD5-4A83-BF41-DFB8A9AF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AD5D9-869F-49B6-871F-4084E2E3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E9972-68F9-4A7B-9831-07AB8A20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E87F3-13D1-4D97-944F-5A4CABFD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F4CA4-85C2-477E-BF88-14D29479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90AEC-64CF-4D40-B455-6206FD61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7A5FD-520E-4A72-BFD7-0FEE3887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CC91-9D57-4613-BFCF-B7FC40B1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9B02A-3CF1-4105-8CB9-869E049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18289-A5DC-4EF2-AF9D-DC1B7F7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44CB7-6DB8-4DD4-9CC1-7A13103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75658-82BD-4B1F-B41C-00E7B8B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11F19-4CEC-4D45-AD85-D40A26D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AF9B5-965D-4A75-9190-7914E1C8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B8903-6DB3-4293-A13E-4ABA6B21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4F80D-5FAA-463D-8DD4-127FA713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2AEED-0E85-4206-8175-2EAEAF5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0CEF3-A117-4786-81D7-22CB4F9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2793-E36B-43C7-B742-4CCA5942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68F6B-9699-4C05-92A7-5562FBF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E0622-0F06-499A-9090-0F506031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BE04A-A2CF-4017-8908-9FC13AFC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5356F-0E0D-46BD-9443-D721880E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805F7-7BE5-4F9C-8248-B295E7D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222F5-4B8B-4D4D-844E-5B8BFB2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20569-AD7C-46E7-A765-D3E61CFD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7EA93-C3DB-4C1B-9C1D-2DB13E45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71CFB-D1F9-4462-A24B-1F074D78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91EA8-0F56-451C-8D2C-DE9E5521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766-B9B4-4D1C-A472-9EFB3C8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5C239-ACB1-4A6A-877B-2637C382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298B0-062C-4ADD-8CE4-CBB21135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38367-CAAE-4089-8633-3B9ACBA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5A217-CA63-4B83-8F91-707E1EC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0F694-4FD8-41C4-BAB3-7AEF4B4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4E52C-38D6-460A-A7DB-57DF0B8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4FA09-3A18-4C5E-B9B7-6ECFB97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8DB2F-9532-4ABA-B172-614AA51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427BE-9346-451D-AA96-DC620607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246A6-0A4B-4579-8A31-A4D1B571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67EF-E716-4C43-81E0-59D1BDD8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9E73B-DCE1-4C4C-90A6-C32FA2D2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8CC34-DC73-48C1-8250-52AD9A99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D3C84-49B4-4975-8AF3-74F520DC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D0587-7B39-45AC-AB0F-3FD249DF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13BE3-DCB8-423F-8325-91828E44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5C6E3-1C46-424C-A450-DD23B8A2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CFEBE-8330-4FAA-8BA8-DBF20E5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879E0-2D63-4095-86EB-A89E718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A433D-7173-4969-9983-417ADB1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D80B7-90FE-483E-89AF-D63F663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829E-D545-46AC-B275-90914F2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09A71-2306-474C-AF99-ABC791A4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E64B4-A305-4A9D-A0D2-5DB3BE65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A82E7-F727-41A4-8F4F-95ECFD89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59E-FAE0-446C-A7D8-FB3F17B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4EF-A92E-4B92-A909-F22E412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B6F6-B565-4EF5-ADE6-8653CFD1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546D-049B-49AE-9F25-D621B90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1905-1763-4ABB-AB34-9858E08C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417D-F731-41C1-B7E4-29E86B3C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0182-26A3-41F4-865D-AA8BEECE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D65B-E89E-4FB4-ACD7-5C8AFBA9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CF86-331D-4357-B317-924E775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4004-2D4D-47C2-B5BC-E67AF04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C596-51C2-4E57-B913-83B8272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25D-7B8E-4521-95C6-5975A0B5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6388-FD96-41E1-9C87-5334F631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8DF1-1272-4370-82E7-51A24CD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FAF4-33A1-4011-A2A2-3D0BF66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7372-693F-4EA4-9241-FB1A638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CA19-D3D8-4AB0-BB20-EE7A17E0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6B2B-BF22-4F20-99E6-0B592B9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29F9-5808-4087-9273-2500ED42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7CEA-69A6-4022-9A5A-09F3BB58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6902-6130-4BF4-8F02-CC688E1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7B68-CEAF-442B-BB4C-7CC0644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3D9-53F7-412B-9A9F-2908127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6A1AF-E663-453D-9260-A3295A9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6519-157B-4351-BE76-4493F3A3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2912-9420-4975-B813-7B5E723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A380-4E2A-4B4D-8E0D-EBC677D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A8C7-FFE9-40F7-AE4D-E9AF0F7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CD90-B21B-47EA-9D93-1F83B3F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4E83-D20B-4D76-AEAC-FA18989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86C3-9082-4A51-BD30-19F3A7C0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30E0-22FB-48FB-9B0C-48E1DDA3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F5EC-EBD1-439D-BA08-B24F0B79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BFD-8946-44BA-9CB6-68A29A56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568B-5A31-43B5-8AF8-E0713A1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1203-15BC-4F12-B2D4-624A796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ADE4-EA62-4332-8263-E9D26219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CED0-5AFA-4DDF-9289-AD83D102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FF4F-218D-456A-B6DE-1E27A4E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0195-9C86-4ADA-AF75-691D0AB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EEE96-3645-4812-A0A5-EC376858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0BF98-00D3-46BC-92D8-EEFA4618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0BDB-A0EA-453F-B063-35A83006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A295C-401A-4F74-8A11-668BB344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DAE-46AE-4714-A712-1C0F6E3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9D39-6740-4647-BCD8-C633870A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EFC8-5DFA-4B32-88D9-5D548AB4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C381-D11D-4DF0-80B3-4878AC13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CC23F-CD6D-4FA1-94D4-BDD876F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19DCA-B966-4FF7-88D4-6974188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050C3-792B-4017-B000-197D45B6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CC0D-8FD9-4D91-84AD-58A3A89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515F-F0C9-4D24-B57C-8F7D17A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4822-E46B-4C3E-A925-F0B7F8F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29987-6EBB-4506-9CDB-8E8877D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F21-BE17-46CD-8278-91EC05B2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59CC-49E1-4691-8BF2-276F12F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E7F7-49FB-40AD-B298-D8C2E950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F3A5A-A7A6-485D-81DA-165B6149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9A3FB-656B-4FC0-933B-CF6F3237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B22D-F6AD-47F0-83AE-A3D6BE1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5492-88EF-418F-9689-14B41A9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4006-A73A-459C-8AED-A1913651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CCB9-5256-4486-BAC6-6A97267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D0455-736F-4032-AE1C-EB35AF3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BC9E-F202-4952-B45C-9B65903B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DFA-CD78-4F62-A3DD-BB26E81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6CD27-7D81-46C4-82E5-2B2B650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428F-A90F-466A-8E12-E490D9E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4B23-D24E-4DA3-B414-7B056B8B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3D58-B5B8-4EE6-A3BF-C7DDD7C3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10BA-13B8-4052-90E8-3D5FD061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1F5D-62FC-4DDE-A152-492E3214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3A4C-47B9-4470-A17F-92A7E4BA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ED1C-B488-49AE-A036-5535653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1924-A8D4-4F03-BE29-CB62346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59C2-A87C-473E-A05D-E71BE9AE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00D-1036-4DC4-9E9F-FA980D4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2286-D939-40E0-B493-BBA9D35D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D5576-6A87-4BFF-A433-CD701EC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04623-D877-4F64-A49A-F24C3A2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EBDE5-2DB1-4D59-8DC4-F270A87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916A-B983-47B5-96B5-B7E18FDF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42B6-BAF5-40DD-B42F-FA876575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D387-49F1-4267-BD75-E9EA3A4D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37E8-F171-4D32-ACC0-3681A6CF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052D4-6903-4869-8118-0C424B1A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E9C88-9DDA-4024-9A40-78B0F69A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94D1-D38B-4430-9BF2-D9DA92439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1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FE86-9D42-4BB1-BD34-C5FB79A47C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E97-C466-4AA0-B148-28BB7CB9B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ED44-8C3D-4A6D-936A-0668F961F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4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971-2C00-468C-AD24-FFF367C3D3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9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2694-CCB2-4311-938A-D009924FF1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3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1B8B-CDB0-405C-8AE9-49F76A96E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8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E2A-BE3E-45EB-8AA6-8C7480A26D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5293-D12F-40A7-B3D6-992CA4EA97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E17-3A7A-45DB-B6B8-62738969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090C-EB4C-4D99-8CB7-6A7979BDDB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2016-5B82-44A1-A7DE-566024BCE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3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EDE7-BF20-42F7-9A49-21F633529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8CF1-5015-4651-B5AB-8CB8A727E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2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7823-C907-4401-8B51-C1D5D0661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6E9-82C1-4007-9181-BAAE572A8D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Uq9hynzCVo&amp;feature=related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800" spc="-1" strike="noStrike">
                <a:solidFill>
                  <a:srgbClr val="ffffb7"/>
                </a:solidFill>
                <a:latin typeface="Verdana"/>
              </a:rPr>
              <a:t>Energy</a:t>
            </a:r>
            <a:endParaRPr b="1" lang="en-US" sz="1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36" name="Picture 4" descr="MPj03993710000[1]"/>
          <p:cNvPicPr/>
          <p:nvPr/>
        </p:nvPicPr>
        <p:blipFill>
          <a:blip r:embed="rId1"/>
          <a:stretch/>
        </p:blipFill>
        <p:spPr>
          <a:xfrm>
            <a:off x="6095880" y="3657600"/>
            <a:ext cx="1827360" cy="27399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MCj04040190000[1]"/>
          <p:cNvPicPr/>
          <p:nvPr/>
        </p:nvPicPr>
        <p:blipFill>
          <a:blip r:embed="rId2"/>
          <a:stretch/>
        </p:blipFill>
        <p:spPr>
          <a:xfrm>
            <a:off x="7238880" y="9144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8" descr="MPj03154930000[1]"/>
          <p:cNvPicPr/>
          <p:nvPr/>
        </p:nvPicPr>
        <p:blipFill>
          <a:blip r:embed="rId3"/>
          <a:stretch/>
        </p:blipFill>
        <p:spPr>
          <a:xfrm>
            <a:off x="609480" y="380880"/>
            <a:ext cx="1103400" cy="1676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9" descr="MCj02331050000[1]"/>
          <p:cNvPicPr/>
          <p:nvPr/>
        </p:nvPicPr>
        <p:blipFill>
          <a:blip r:embed="rId4"/>
          <a:stretch/>
        </p:blipFill>
        <p:spPr>
          <a:xfrm>
            <a:off x="2133720" y="3886200"/>
            <a:ext cx="2347920" cy="2320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" descr="MPj03993890000[1]"/>
          <p:cNvPicPr/>
          <p:nvPr/>
        </p:nvPicPr>
        <p:blipFill>
          <a:blip r:embed="rId5"/>
          <a:stretch/>
        </p:blipFill>
        <p:spPr>
          <a:xfrm>
            <a:off x="3581280" y="228600"/>
            <a:ext cx="20275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types of energy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97" name="Forms_of_Energy.asf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70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9898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Potential and Kinetic Energ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44400" y="182844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 five forms of energy can be classified as either potential or 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is stored or energy of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ne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is the energy of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3526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Kinetic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ster an object moves the more kinetic energy it h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etic energy depends on mass and velocity (speed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2362320" y="5029200"/>
            <a:ext cx="5257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alculation K.E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00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has more kinetic energy, an 80 kg man moving at 4 m/sec or a 40 kg boy moving at 8 m/se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E.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kg x 4m/sec2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 640 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E.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0 kg x 8 m/sec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,280 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Picture 5" descr="http://ffden-2.phys.uaf.edu/211_fall2002.web.dir/shawna_sastamoinen/Velocity&amp;Kinetic_files/image003.jpg"/>
          <p:cNvPicPr/>
          <p:nvPr/>
        </p:nvPicPr>
        <p:blipFill>
          <a:blip r:embed="rId1"/>
          <a:stretch/>
        </p:blipFill>
        <p:spPr>
          <a:xfrm>
            <a:off x="5410080" y="1433520"/>
            <a:ext cx="3381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Potential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428640" y="1904760"/>
            <a:ext cx="571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bject stores th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based on position like a stretched rubber band, a wound-up watch, anything held up high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stored in a battery as chemical, in fuel until it is burned, stored in the nucleus until it is sp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5" descr="http://www.physicsclassroom.com/class/energy/u5l1b1.gif"/>
          <p:cNvPicPr/>
          <p:nvPr/>
        </p:nvPicPr>
        <p:blipFill>
          <a:blip r:embed="rId1"/>
          <a:stretch/>
        </p:blipFill>
        <p:spPr>
          <a:xfrm>
            <a:off x="228600" y="2895480"/>
            <a:ext cx="32004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ravitational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nergy that is dependent on height.  Example:  waterfall, falling snowfl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r up an object is the more G.P.E. it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mass, the more G.P.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P.E. = weight x 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and Kinetic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13" name="Potential_and_Kinetic_Energy.asf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55754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Energy Conversions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*take your own notes here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energy types can be changed from one form in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motor is electromagnetic to mechanic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is chemical to electromagne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is nuclear to electromagnetic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form of energy can the sun’s energy be converted to?  Hint: 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ial Black"/>
              </a:rPr>
              <a:t>Energy Conversion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3296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energy conversion involves the changing of potential energy to kinetic energy or kinetic energy to potential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Picture 4" descr="Balls"/>
          <p:cNvPicPr/>
          <p:nvPr/>
        </p:nvPicPr>
        <p:blipFill>
          <a:blip r:embed="rId1"/>
          <a:stretch/>
        </p:blipFill>
        <p:spPr>
          <a:xfrm>
            <a:off x="457200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820" name="Picture 4" descr="maxpotkin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7"/>
          <p:cNvSpPr/>
          <p:nvPr/>
        </p:nvSpPr>
        <p:spPr>
          <a:xfrm>
            <a:off x="45720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low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693432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peed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oney Tune Energy?.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42" name="Picture 6" descr="C:\Users\ddirish\AppData\Local\Microsoft\Windows\Temporary Internet Files\Content.IE5\O85GW60H\MC900383904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447920"/>
            <a:ext cx="4510080" cy="4495680"/>
          </a:xfrm>
          <a:prstGeom prst="rect">
            <a:avLst/>
          </a:prstGeom>
          <a:ln w="0">
            <a:noFill/>
          </a:ln>
        </p:spPr>
      </p:pic>
      <p:pic>
        <p:nvPicPr>
          <p:cNvPr id="743" name="Looney Tunes - Wile E Coyote &amp; Roadrunner.wmv" descr=""/>
          <p:cNvPicPr/>
          <p:nvPr/>
        </p:nvPicPr>
        <p:blipFill>
          <a:blip r:embed="rId3"/>
          <a:stretch/>
        </p:blipFill>
        <p:spPr>
          <a:xfrm>
            <a:off x="1623960" y="1427040"/>
            <a:ext cx="6226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Nuclear Power Plant  </a:t>
            </a: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         Exampl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24" name="Picture 4" descr="hair"/>
          <p:cNvPicPr/>
          <p:nvPr/>
        </p:nvPicPr>
        <p:blipFill>
          <a:blip r:embed="rId1"/>
          <a:stretch/>
        </p:blipFill>
        <p:spPr>
          <a:xfrm>
            <a:off x="1371600" y="2039760"/>
            <a:ext cx="617220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nservation of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Law of Conservation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s that energy can be neither created nor destroyed by ordinary m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 Einstein’s Theory of Relativity states that mass and energy are directly related, energy and mass are interchange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words:  the smaller something is the more energy it creates.  Example: 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sics principl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ce is required to change the motion of an object.  Changes the energy of every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on is faster when more energy is u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is the rate at which work is done and the rate at which energy is consu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onclus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0" name="Review.asf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757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1698" fill="hold"/>
                                        <p:tgtEl>
                                          <p:spTgt spid="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This is just the beginning of Physics!!! I know you’re excited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2" name="Picture 6" descr="concenergy"/>
          <p:cNvPicPr/>
          <p:nvPr/>
        </p:nvPicPr>
        <p:blipFill>
          <a:blip r:embed="rId1"/>
          <a:stretch/>
        </p:blipFill>
        <p:spPr>
          <a:xfrm>
            <a:off x="1752480" y="2606760"/>
            <a:ext cx="6477120" cy="3998880"/>
          </a:xfrm>
          <a:prstGeom prst="rect">
            <a:avLst/>
          </a:prstGeom>
          <a:ln w="0">
            <a:noFill/>
          </a:ln>
        </p:spPr>
      </p:pic>
      <p:pic>
        <p:nvPicPr>
          <p:cNvPr id="833" name="conservation of mass and energy.mp3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9636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b7"/>
                </a:solidFill>
                <a:latin typeface="Arial Black"/>
              </a:rPr>
              <a:t>Energy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ergy - the ability to do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asured in jo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5 MAIN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1240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Forms of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Picture 4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1557360" cy="1752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6" descr=""/>
          <p:cNvPicPr/>
          <p:nvPr/>
        </p:nvPicPr>
        <p:blipFill>
          <a:blip r:embed="rId2"/>
          <a:stretch/>
        </p:blipFill>
        <p:spPr>
          <a:xfrm>
            <a:off x="7362720" y="3173400"/>
            <a:ext cx="1206720" cy="1189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8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" descr=""/>
          <p:cNvPicPr/>
          <p:nvPr/>
        </p:nvPicPr>
        <p:blipFill>
          <a:blip r:embed="rId4"/>
          <a:stretch/>
        </p:blipFill>
        <p:spPr>
          <a:xfrm>
            <a:off x="4572000" y="2971800"/>
            <a:ext cx="1400040" cy="1103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11"/>
          <p:cNvSpPr/>
          <p:nvPr/>
        </p:nvSpPr>
        <p:spPr>
          <a:xfrm>
            <a:off x="3583080" y="6051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7045920" y="59752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7331040" y="42228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4875480" y="39178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6178680" y="1784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Mechanical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nergy that is associated with </a:t>
            </a:r>
            <a:r>
              <a:rPr b="0" lang="en-US" sz="3600" spc="-1" strike="noStrike" u="sng">
                <a:solidFill>
                  <a:srgbClr val="333300"/>
                </a:solidFill>
                <a:uFillTx/>
                <a:latin typeface="Arial"/>
              </a:rPr>
              <a:t>mo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4" descr=""/>
          <p:cNvPicPr/>
          <p:nvPr/>
        </p:nvPicPr>
        <p:blipFill>
          <a:blip r:embed="rId1"/>
          <a:stretch/>
        </p:blipFill>
        <p:spPr>
          <a:xfrm>
            <a:off x="6991200" y="1905120"/>
            <a:ext cx="1289160" cy="9064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"/>
          <p:cNvPicPr/>
          <p:nvPr/>
        </p:nvPicPr>
        <p:blipFill>
          <a:blip r:embed="rId2"/>
          <a:stretch/>
        </p:blipFill>
        <p:spPr>
          <a:xfrm>
            <a:off x="5583240" y="4443480"/>
            <a:ext cx="2557440" cy="8017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3"/>
          <a:stretch/>
        </p:blipFill>
        <p:spPr>
          <a:xfrm>
            <a:off x="3962520" y="2743200"/>
            <a:ext cx="780840" cy="9428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9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895320" cy="704880"/>
          </a:xfrm>
          <a:prstGeom prst="rect">
            <a:avLst/>
          </a:prstGeom>
          <a:ln w="0">
            <a:noFill/>
          </a:ln>
        </p:spPr>
      </p:pic>
      <p:sp>
        <p:nvSpPr>
          <p:cNvPr id="765" name="WordArt 10"/>
          <p:cNvSpPr txBox="1"/>
          <p:nvPr/>
        </p:nvSpPr>
        <p:spPr>
          <a:xfrm>
            <a:off x="6858000" y="2743200"/>
            <a:ext cx="189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terfal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6" name="WordArt 11"/>
          <p:cNvSpPr txBox="1"/>
          <p:nvPr/>
        </p:nvSpPr>
        <p:spPr>
          <a:xfrm>
            <a:off x="4876920" y="1905120"/>
            <a:ext cx="117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WordArt 12"/>
          <p:cNvSpPr txBox="1"/>
          <p:nvPr/>
        </p:nvSpPr>
        <p:spPr>
          <a:xfrm>
            <a:off x="6019920" y="5257800"/>
            <a:ext cx="89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WordArt 13"/>
          <p:cNvSpPr txBox="1"/>
          <p:nvPr/>
        </p:nvSpPr>
        <p:spPr>
          <a:xfrm>
            <a:off x="685800" y="4343400"/>
            <a:ext cx="107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o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9" name="Picture 14" descr=""/>
          <p:cNvPicPr/>
          <p:nvPr/>
        </p:nvPicPr>
        <p:blipFill>
          <a:blip r:embed="rId5"/>
          <a:stretch/>
        </p:blipFill>
        <p:spPr>
          <a:xfrm>
            <a:off x="2438280" y="4800600"/>
            <a:ext cx="1105200" cy="1276200"/>
          </a:xfrm>
          <a:prstGeom prst="rect">
            <a:avLst/>
          </a:prstGeom>
          <a:ln w="0">
            <a:noFill/>
          </a:ln>
        </p:spPr>
      </p:pic>
      <p:sp>
        <p:nvSpPr>
          <p:cNvPr id="770" name="WordArt 15"/>
          <p:cNvSpPr txBox="1"/>
          <p:nvPr/>
        </p:nvSpPr>
        <p:spPr>
          <a:xfrm>
            <a:off x="1219320" y="60958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t moving 700 km/h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WordArt 16"/>
          <p:cNvSpPr txBox="1"/>
          <p:nvPr/>
        </p:nvSpPr>
        <p:spPr>
          <a:xfrm>
            <a:off x="3809880" y="3809880"/>
            <a:ext cx="146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l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2" name="Music"/>
          <p:cNvSpPr/>
          <p:nvPr/>
        </p:nvSpPr>
        <p:spPr>
          <a:xfrm>
            <a:off x="5181480" y="1447920"/>
            <a:ext cx="447840" cy="218880"/>
          </a:xfrm>
          <a:custGeom>
            <a:avLst/>
            <a:gdLst>
              <a:gd name="textAreaLeft" fmla="*/ 165240 w 447840"/>
              <a:gd name="textAreaRight" fmla="*/ 434160 w 447840"/>
              <a:gd name="textAreaTop" fmla="*/ 9360 h 218880"/>
              <a:gd name="textAreaBottom" fmla="*/ 54000 h 2188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20"/>
          <p:cNvSpPr/>
          <p:nvPr/>
        </p:nvSpPr>
        <p:spPr>
          <a:xfrm>
            <a:off x="6025320" y="61279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Know these examp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Heat Energy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8536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l motion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ster the particles move, the hotter they 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from fri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1854360" cy="202896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6"/>
          <p:cNvSpPr/>
          <p:nvPr/>
        </p:nvSpPr>
        <p:spPr>
          <a:xfrm>
            <a:off x="3657600" y="40705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3870360" y="39178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3265920" y="5029200"/>
            <a:ext cx="43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iction is producing heat betwe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aw and the wood.  Tur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chanical energy i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at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4417560" y="46339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DO NOT WRI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Picture 10" descr="http://www.energyeducation.tx.gov/img/energy_logo.gif"/>
          <p:cNvPicPr/>
          <p:nvPr/>
        </p:nvPicPr>
        <p:blipFill>
          <a:blip r:embed="rId2"/>
          <a:stretch/>
        </p:blipFill>
        <p:spPr>
          <a:xfrm>
            <a:off x="6738840" y="228600"/>
            <a:ext cx="2117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Chemical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s in the bonds that hold atoms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rning fuel or when our body uses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2362320" cy="207324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http://www.tech-faq.com/wp-content/uploads/images/Chemical-Energy.gif"/>
          <p:cNvPicPr/>
          <p:nvPr/>
        </p:nvPicPr>
        <p:blipFill>
          <a:blip r:embed="rId2"/>
          <a:stretch/>
        </p:blipFill>
        <p:spPr>
          <a:xfrm>
            <a:off x="4800600" y="304812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Electromagnetic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electric charges (electric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8" descr=""/>
          <p:cNvPicPr/>
          <p:nvPr/>
        </p:nvPicPr>
        <p:blipFill>
          <a:blip r:embed="rId2"/>
          <a:stretch/>
        </p:blipFill>
        <p:spPr>
          <a:xfrm>
            <a:off x="6950160" y="2863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15238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Nuclear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708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us is a source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and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1600200" cy="1568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6" descr=""/>
          <p:cNvPicPr/>
          <p:nvPr/>
        </p:nvPicPr>
        <p:blipFill>
          <a:blip r:embed="rId2"/>
          <a:stretch/>
        </p:blipFill>
        <p:spPr>
          <a:xfrm>
            <a:off x="6095880" y="3929040"/>
            <a:ext cx="2028960" cy="20574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http://images.fastcompany.com/upload/nuclearpower.jpg"/>
          <p:cNvPicPr/>
          <p:nvPr/>
        </p:nvPicPr>
        <p:blipFill>
          <a:blip r:embed="rId3"/>
          <a:stretch/>
        </p:blipFill>
        <p:spPr>
          <a:xfrm>
            <a:off x="1752480" y="3929040"/>
            <a:ext cx="3338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1:20:58Z</dcterms:created>
  <dc:creator> none</dc:creator>
  <dc:description/>
  <dc:language>en-US</dc:language>
  <cp:lastModifiedBy>Kimberly K. Piper</cp:lastModifiedBy>
  <dcterms:modified xsi:type="dcterms:W3CDTF">2015-09-17T00:10:03Z</dcterms:modified>
  <cp:revision>24</cp:revision>
  <dc:subject/>
  <dc:title>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